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8AB9-8C97-415A-B60C-A485AEE4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9C75-4819-4C48-A8C9-ECE25EDE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F131-CF0A-47D3-AB4B-FC1CBD26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2B97-362B-4BA2-8910-0A0FF653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BA5D-5A3F-48C3-994B-C37D7AEC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7570-5554-46EC-A44B-DBEE1AFC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06D7-8EEA-4390-BC0A-4E32F2F4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8F8D-80EC-4A81-892A-7C84484B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2FDC-73CC-45F7-8BBD-ACE712EA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D2FD-0172-48AE-8A71-2068BA09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8776-4469-4ACE-93AB-610030E8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434E-52C8-45CA-9D19-17FB4599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0A6A-4458-4906-AEDB-AF025434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2280-771E-4FD0-B308-DD7F6977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6189-523C-4E5D-84F9-0620AD96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EABC-19F6-49D0-A624-B9286782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7D0E-7CEB-4B2E-ADA5-05E6EB0D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2CF6-4120-48C5-8E66-B0CF15DC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6CC2-6BC0-4DEE-9A1A-C76F3ED3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D323-CD5F-4B60-A852-62BC50EC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EC56-F7F2-42C7-9B70-1E3F8A6C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492C-1171-4A8D-BC64-EB7ADA38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6442-DBCF-4F14-AECB-AE50BFCE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0D9-E7BC-406B-B38A-D5DA53A9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AF0B-9670-4309-8C45-8FC28748FDF5}" type="slidenum"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ED5E-62D9-49E3-9309-DBA9FB5E2205}" type="slidenum"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38120" y="-6480"/>
            <a:ext cx="8839080" cy="1335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By Joshua Michael Pyk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Grade:5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Link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2" action="ppaction://hlinksldjump"/>
              </a:rPr>
              <a:t>To John Cena biography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3" action="ppaction://hlinksldjump"/>
              </a:rPr>
              <a:t>To John Cena’s pictur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4" action="ppaction://hlinksldjump"/>
              </a:rPr>
              <a:t>To Math game review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5" action="ppaction://hlinksldjump"/>
              </a:rPr>
              <a:t>To Math game review 2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6" action="ppaction://hlinksldjump"/>
              </a:rPr>
              <a:t>To KFC histo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7" action="ppaction://hlinksldjump"/>
              </a:rPr>
              <a:t>To KFC log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8" action="ppaction://hlinksldjump"/>
              </a:rPr>
              <a:t>To Rumplestiltsk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9" action="ppaction://hlinksldjump"/>
              </a:rPr>
              <a:t>To the e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332920" cy="987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14200" y="114264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Name :John Cen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He is famous because he is a wrestle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Place of birth: West Newbury Massachusett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Date of birth: 23 of April 1977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ge: 32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He has been in WWE since 2002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His first match was against Kurt Angl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He has won 4 titl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He has been injured 2 times badl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He came back from a injury in 2008 to win the Royal Rumble.   </a:t>
            </a: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2" action="ppaction://hlinksldjump"/>
              </a:rPr>
              <a:t>To John Cena’s picture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3" descr="john cena.jpg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471492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>
            <a:off x="1357200" y="6072120"/>
            <a:ext cx="72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To  the maths game re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2139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Its  called car wash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Is to get answers correct and wash the car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You chose a car and it has a level. You click on the right answer then after you get them all right you wash them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I think its a pretty cool gam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I would recommend it for everyon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Here is a link to the game :http://www.multiplication.com/flashgames/CarWash.ht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To next page of my math game review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52804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With the car wash game I think its pretty easy. It is fun to play because it tests your tables skills. Also with car wash you get to race the car you wash!!!!! It is a very awesome game to play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To K.F.C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It originated in Kentucky U.S.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It is successful because it sells the best tasting food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Colon Harland Sanders created KFC in 1952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In 2008 they made about 1million dollar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Colon Sander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To the KFC logo pag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3" descr="300px-KFC_logo_svg.png"/>
          <p:cNvPicPr/>
          <p:nvPr/>
        </p:nvPicPr>
        <p:blipFill>
          <a:blip r:embed="rId2"/>
          <a:stretch/>
        </p:blipFill>
        <p:spPr>
          <a:xfrm>
            <a:off x="857160" y="1214280"/>
            <a:ext cx="7572600" cy="435780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1428840" y="585792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To Rumplestiltsk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93560" y="-79200"/>
            <a:ext cx="8242560" cy="969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Rumplestiltsk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The K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gir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The Que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In a kingd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Rumplestiltskin can spin straw into gol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There are 5 magical number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The girl gives gold to the king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The king gets greed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The king threatened the girl he would kill he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They get married and they live happily ever afte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To the e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I hope you enjoyed my web ques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23:08:35Z</dcterms:created>
  <dc:creator>Education</dc:creator>
  <dc:description/>
  <dc:language>en-US</dc:language>
  <cp:lastModifiedBy>Education</cp:lastModifiedBy>
  <dcterms:modified xsi:type="dcterms:W3CDTF">2009-12-01T22:52:44Z</dcterms:modified>
  <cp:revision>16</cp:revision>
  <dc:subject/>
  <dc:title>My grade 5 web quest!</dc:title>
</cp:coreProperties>
</file>